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B500-ACA7-4D54-ADB1-7A17A382B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students look for examples of cause and effect signal words in text books and technical manu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321D-9881-4CAE-9127-AD20C06DE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A3104-D1B5-45A5-A288-D322701C9F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FD235-7BB3-41F1-94A4-11964957FC8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1E9EF-F59C-41CD-B87F-9B4BC88A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1F79E-F398-4FE2-A361-01BD113E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3CF31-E224-43FC-B2E5-B6E618A8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86485-53FB-4DE6-A928-47E91CFC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2CF8A-2AA1-41F1-ACF5-82591305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13937-2056-46FC-994C-CBA098E6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4022C-E704-43BC-BEE9-4C6645EB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1D811-5F81-4685-A0E1-CC59AE61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59636-5605-40B2-B55C-68D46F684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3B1C9-4072-4614-AAF4-57080BBC7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9BC08-BA4E-449F-80C9-3AA1DCC88F1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7BBBA-FAB3-4677-A5E0-AFB8328D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C6A07-532C-4855-8AA9-BB3A141F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6D589-D016-4D4E-9CE6-F4B5FC3E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CC0CEE-C8D2-47A9-9377-B849B6DF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0E74F-BB58-4F69-8978-4E3A3580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1A3BB-BF1F-4986-A405-0CAA7DD3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7A11E-D08D-4DC1-97AB-574887C5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7917B-5558-406B-B8AE-816C37A8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4F5D7-1CAC-4360-B580-63B92F14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60FA5-43EA-482C-A730-EEBC7C187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8D372-D16E-4402-87B9-C72E9C03647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9B9C3-74DA-4D49-9393-5F6E4F793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1A4F7C-A4AA-4630-9619-23F4F9BF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EE7F3-F184-4D48-9CEC-B35A3352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6A107-1725-406B-874A-7EDBB9EC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8ED08A-B1FE-4CC6-A5F9-969921F5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95CDA-BB8C-4B1B-B342-D2FF070D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629B8-F4C1-44AB-B1EE-B0740665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31175-931D-409E-BFCD-AD2445F1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31333-8E8F-4C21-8167-F2119BEB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F352D-2C14-4A79-B5C6-5A1584D4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270B-4113-4A7E-AD21-FB338F7EDC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BE11D-F9F3-431F-8D4B-59011643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271C3-28B0-4297-8EFF-C9E02E1EE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66F63-1DFA-4439-824B-0C97F8F4B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16C87-C29C-43B4-A95C-EFD5ED9F7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6F69F-456C-49A5-9FD4-5E9F797D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A686C-271A-4A99-ADB1-9E873D0D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5D52E-9CB4-4C20-9F26-C026C3FF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91218-0249-4B50-A16F-A2B3DEEF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AFADD-6BC9-4E9A-B6AE-921AAB4A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038B6-62B8-4105-9FC1-ED67B70D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5A66-93A6-42D6-A2F8-5D606D0C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D6913-78FE-4B1D-BECF-CF4DF63C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38F79-B8BF-48F4-9B71-FDA562FD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E10D6-1EDF-4114-8245-A3416C81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89AE2-D41C-44D0-AD48-D7CB3C72C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B6D87-7344-4D14-BC81-46E141E0E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9E6D-FEE3-4166-9312-8488EB2D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1118-1BB5-45D9-A592-0874EE09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C642-172C-4D8B-8182-5A5FB89B7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A2B6-69D0-4FA2-BD6D-7121E8BEF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62C8-F575-4087-AAB5-D68E36DF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2F1E8-6379-4938-AE7B-AF4647FD55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69AC-4471-4684-AB28-93FF049B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B721-8646-47E5-A405-7DE90C26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28A1-1BDF-4F86-BEFA-D5D08D0F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955C-B2CC-4465-8829-8915B549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4513-6E13-4ACE-85E1-430CAF8400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BEC2-5CB2-4206-A937-E60FE0D1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D6E6-FAD2-4194-95BD-9FEFEBF3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4B8F-B8C7-427C-8EC6-7E309E69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4C0C-1EC6-41C1-8A92-4D100A98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2F6F-B2A6-4226-83C7-E1232678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F5217-17CB-4192-99A5-47F094E38F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1B09-2156-4A61-83C2-7308A9D6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8073-3A87-4762-B21D-A6F43AB6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403F-0CCC-4EE3-82FE-389D5FA6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094B-3699-41C6-8F3F-D88CED8A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0C23-281F-412D-BB3C-DDC362F0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99D5-DBB0-4CCD-9CA1-19EF7FDC8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1AE4-A5AE-4749-819E-35F459AA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83192-9B89-48C5-9BE1-1F7FCB4D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7A8C9-0CBA-4CD2-950A-1A62B75F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84353-0C8E-4122-8632-63BBD5C3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6DE33-277A-4AFB-A505-04BC640A205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6E849-2FDA-4FFB-8D3D-F9608EEE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88C76-B0C6-420E-9303-69442F5E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56368-38D1-4E22-B299-D5F72A11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55F6B-23BC-4710-A1A0-17814737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17004-9490-44EF-84DC-57FA897D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6CE28-4234-4D55-B34D-E80BBFCA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9A96E-A3F5-4A1C-9B9D-47154E43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87152-6112-4073-BFF3-5408700E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2FBB1-EF48-45D4-A4A6-29935E0CB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2EB77-5EBA-4965-AFC4-406683E8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3B2E7-4D19-4B0F-A2D5-677C43688F4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5F5C6-A795-4645-908C-99D141C8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6D02B-F246-48AD-9E76-B8D8258C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E295C-E4B0-43B2-9037-561229CF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8292F-6A6B-4D00-963C-51AA6E9E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07167-44CD-4DC1-AC9F-BD810926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4592A-7976-4322-83F4-FC84713B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2E110-5E46-4C4D-BCE8-8960E55C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E41A0-7AEB-4408-8D35-C531FE67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D960A-D06C-4AA5-8504-93F58500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1F8D2-308D-4160-B12C-4701587B7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02AD0-F74C-489D-BFDC-CB73A24EDBB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82FB9-7CDE-4029-92C6-84AE873D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B34C9-DF73-44CF-8C94-19E4B730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A1643-A226-4FC6-9C34-5A93A59D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258A3-A4FF-4934-8DD0-94F83945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9417C-5A2F-4E2F-B9D8-20BBD8E7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50CBA-1E4F-4783-91FA-7E0630D2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B43B7-4581-4CF5-9CA7-01C02DAF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957D3-1414-44AF-ACC3-B932F885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40360-6160-4A02-8091-8C6CD1CC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73D8A-EB53-44BC-80ED-1CC3F819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57638-5E00-462D-8057-569DDD51631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0CB90-A65C-4503-BA22-6FCDB1A3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5CF87-FAF4-4EEA-9177-F71E2AA64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FBC4A-C190-42D5-9311-F7747E794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74FA2-42C3-498D-B717-47B1FBAA7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6FC3A-11EB-4249-941F-01FA8546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FA414-880A-43D0-9B94-74B78F4A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EC3AA-BEB3-4214-8133-4CBE1B5C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AF5C3-7142-4868-8D71-6B3A781A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82C2D-7A1B-45F4-B54A-A13A82B7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EBC9E-E9B7-4F95-B6D0-980C43FF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32C93-51DE-4568-B500-16EAF2A10F4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B1701-9246-4B69-A4E2-DF914C5F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047D3-4883-4648-BC76-B1EDFF35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D721A-7C6A-4AAD-A84E-DC4D1B93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859D7-FF70-4424-8B24-801D43BC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280DC-26E5-4267-86B3-7C2A69C9F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05941-B0D4-4F76-B41E-3776DBEF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BE1F1-1B0A-463D-AE6F-3856BDC8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2C1E4-1385-4034-AC25-FA918C5A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73A1D-961F-44AA-96B5-4C8EE12D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88731-3C6B-49D6-B8B0-EAFE19DD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22E61-0E48-4391-B50E-F36C0E28D59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8BE58-E4A7-47C6-9599-72F67D2D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E3F1A-58AF-483C-8BF1-E4FCBBD8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B64AB-58AE-43E3-BB5D-424C12A1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77803-4777-4AB9-9383-6DEB322E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7B32D-3176-4A52-A7EC-42B37763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A2655-624C-4E5C-B85B-8703CF24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7EA5A-34F8-47D0-907D-E3E5E079E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EBAA9-7F80-48C4-9CFF-5132F99A2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B6E3F-64DE-4E06-B46F-8A9C611A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2B525-2D71-4899-B8EE-9CA01D27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9C5F-0489-41DD-A089-CFCC29A342DF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grpSp>
        <p:nvGrpSpPr>
          <p:cNvPr id="6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7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5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E4A3-B054-42D3-8E49-B436122363E1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6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6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28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DDFB-E8E4-4059-AB93-CDA5F90FC75C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1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68BB-6DB1-43DF-9BB5-66C248179EFA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Straight Connector 7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49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2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3E7A-AB35-4DF2-8082-D6259FB3963E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2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98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E78A-78DF-4CB3-88F4-6753B4F0063E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Straight Connector 7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2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eec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beec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7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1457-6325-4C41-802B-920873D211BA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6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9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037A-1818-4743-9B89-932560F02507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Straight Connector 7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6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D775-10D7-4988-A5F8-DF1B4B18A91D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0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3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86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6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4B72-AA96-4635-A6C6-D0F8A44748E8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9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886C-499D-4993-96B8-EA95721BFDE0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Straight Connector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71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2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5541-D06E-451C-9CE8-35B531BF4CF4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SOUTH DAKOTA AFNR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Verdana"/>
              </a:rPr>
              <a:t>Academic Integration Activities: Example #8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s the piston pushes the fuel/air mixture into a smaller space, it creates </a:t>
            </a: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compression</a:t>
            </a: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 because pressure on the fuel/air mixture is greater than before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Signal word: Because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Cause: Piston pushing the air/fuel mixture into a smaller space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Effect: Increased pressure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Compression must be an action than increases the pressure on something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5"/>
          <p:cNvSpPr/>
          <p:nvPr/>
        </p:nvSpPr>
        <p:spPr>
          <a:xfrm>
            <a:off x="609480" y="1900080"/>
            <a:ext cx="7925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Fundamental Ag Mechanics students use cause and effect clues to understand the operation of a four stroke internal combustion eng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AG STANDARD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undamental Ag Mechanics—FAM 2.3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Repair internal combustion engines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Write a description of the operation of internal combustion engines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ACADEMIC STANDARD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11.R.1.1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tudents can apply cause and effect clues to extend vocabulary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BACKGROUND INFORMATION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e cause of an action or event may be stated using an unfamiliar word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If the effect is stated in familiar terms, it can help the reader understand the unknown word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BACKGROUND INFORMATION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The weeds in the garden are so profuse that I can no longer see the flowers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What does the word “profuse” mean?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Cause: There are many weeds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Effect: You can’t see the flowers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Profuse must mean a large amount of something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BACKGROUND INFORMATION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Words signaling cause and effect: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Because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Since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Therefore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Consequently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As a result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So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That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EXAMPLE IN CONTEX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e intake valve is open during the </a:t>
            </a: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intake</a:t>
            </a: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stroke</a:t>
            </a: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. As a result, the air/fuel mixture enters into the cylinder and combustion chamber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Signal word: As a result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Cause: Intake value is open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Effect: Air/fuel mixture can enter the cylinder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Intake stroke must mean a period before power is created or a time when new fuel comes into the cylinder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GUIDED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 spark leads to </a:t>
            </a: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combustion</a:t>
            </a: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; consequently, the explosion pushes the piston and the crankshaft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Signal word: Consequently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Cause: A spark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Effect: An explosion that creates power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Combustion must mean lighting the fuel/air mixture to create an explosion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8:41:56Z</dcterms:created>
  <dc:creator>Lora</dc:creator>
  <dc:description/>
  <dc:language>en-US</dc:language>
  <cp:lastModifiedBy>Lora</cp:lastModifiedBy>
  <dcterms:modified xsi:type="dcterms:W3CDTF">2010-08-05T16:59:15Z</dcterms:modified>
  <cp:revision>15</cp:revision>
  <dc:subject/>
  <dc:title>South Dakota Ag Education</dc:title>
</cp:coreProperties>
</file>